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0E6C5-183C-4160-86B7-D2C9C83A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7F057-EB02-462D-91E2-D33295DD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944BC-6811-4D0F-8454-5F02282E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091DF-49DC-4233-A3C5-57EE0D45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1ACE0-EA80-4BDE-A5BD-0E0C50E2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789E8-9135-45CE-80AC-9CFFC533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35DA1-D32B-4177-B81A-503FEE4A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5BF15-FB7A-492B-B7BC-CDFE7538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6CB99-EC82-4D52-844A-ACB82839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FB685-4AA6-48CB-80B3-B00F6D59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D186C-5E60-4A2A-AF5A-E17B3122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517A9-79A7-4987-9C92-60B2CE42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70819-81A7-46C7-842B-A8B0D429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BB023-51FD-419E-BC98-DA8A5688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31DC4-CC5D-4A6F-8904-9888C07C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63338-337F-4470-89AB-4204C6EA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1F628-0384-4D8D-B21B-50471B7E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17B56-81AD-40DF-98A6-24313DC3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94FB1-B8C3-48A5-B949-E24A84CC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2023D-0C6E-4EF1-A514-6DA28BC7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7238C-82EA-4624-9D65-D37CF637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F0C75-C318-4351-933A-BBCF807B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2CA16-A6AA-41B0-B275-B1E989AD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E258C-0CFB-4E18-A336-2B30E034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4323D-E497-402F-9C92-78618878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E3FA2-77C9-47CB-8D8E-759B97BC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2638E-44B9-42C3-AF32-91197FEA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87214-2EFE-487D-894A-B5FFD3BE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9530A-EF43-4FCB-A9B6-F5AC781F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1426D-EC55-4770-B63B-BA963CE0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9C7E-D974-4AAF-9E9A-703F7A22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588F3-8B9B-4FB5-8271-61CEFEDC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133D6-3B30-4956-832D-CC7A6FD4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8BE8C-69DA-4BCD-8B08-EEAD0DC8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1728E-4EE4-4C0B-AFD0-0FA9E294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FE945-BE7D-49FA-BF09-0C9FD645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F8F2E-C6E4-494F-9392-2EE42FB7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ECDCC-FE1D-4C8C-8B77-B364499D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58629-081E-434A-B6CB-A6369AF5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21E1F-F7D9-4BD5-9C50-5A7EA522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E9DC2-139A-489B-9A37-E42BBBC2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04AA-BC8C-4D09-98A2-025EC10E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FE11A-FE1F-4D6E-9F0B-DC3888A8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3E1C6-CC7D-46A7-878D-9295DAD3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6CC52-D6A9-4A5C-858D-B5F4C9BD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1BB37-F288-458D-95B3-9DDAAD77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8C61D-3362-4640-A008-E2ECC736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B2E-A355-4A22-83F5-E80DFEC6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835B-E076-4194-A0E8-151A7F53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5D58-14E6-4CC7-AD14-19F6052E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E991-1F99-45BF-9668-C48319F7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8679-462E-4A5D-AF89-49B54B3B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6EB-A297-4738-8DC7-5CDAFEAD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C82B-7B33-4523-8A2F-1BC119A2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D835-AC98-4757-B251-E0ECB85B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E2D1-C067-4EA8-A4FD-3D972EF7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60AE-5308-4337-AC6F-C1984E8A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85D3-6BE3-45BD-9B2B-B8CC1E8A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74DA-1B93-40D3-8EA6-C867B994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4E8A-9E87-4C3E-BF13-8858BC1E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C135-B85D-4941-810E-E5DA0A85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D76C-EA2D-43D4-BE21-D4E69BAF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03B7-370E-4940-AD6C-D6D31B68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05FD-B57F-45F3-B657-F07B5897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ADC8-C766-4638-A858-90C2F2F0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72E6-9AEB-4F36-888C-BB6C33E7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1F7E-5C18-4ECD-AC3F-91EC42B9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BBA5-7086-4842-9FCC-21534F4F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FCD8-8CCE-418E-A767-B662F901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C5039-2FFD-4F62-9C6B-50A6C485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CE9EF-A379-471E-8E32-4B3C6A23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90232-6CC3-4F4E-B7DA-46D5F22F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01576-5875-4596-8958-97F74B61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B4AC6-356B-4695-869F-82224D8C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05772-4CD9-436E-B9BB-D66EA054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68D4F-A09B-4CFF-AEBC-94901BCE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1F49C-A46E-4094-861F-6B86E08B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9EAAE-88CD-414A-B577-12600202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04299-FA03-44D3-BDAD-F79E393B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7D48E-43AF-486A-80D4-2A4216E5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C5D12-4B04-4F9E-989A-F74483F9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44341-354B-4D4A-814D-70CFC9D7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503E2-03CC-404C-A41A-254B80CB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59CEC-0316-4C83-AD05-2477324F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BA2F2-E237-4B44-A38C-5F2A42BB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ABC59-AF05-485B-8086-2D68AB8A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D9CED-53C9-477B-AB46-E7DF72D5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C2029-FB42-4875-BF7C-E8F6628F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B8B31-CD50-46E8-A546-EE4CCBA8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7E6A6-1ECA-4BBF-8A5D-C1060FE0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5442D-62FA-4CA2-BE90-1DEA578A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1470E-297F-44FB-8184-2FDCBE0D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770ED-BF60-4990-A15C-7CC7F612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EFDFE-3EE2-4952-A9DC-99D2B513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2BABB-75B4-4ED0-934D-531274ED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3BABC-E58E-4241-9FA6-2943B58D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8A145-F625-4040-B276-0BE23FC4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B005D-59FC-4C81-8FB8-B13FF286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17746-314F-48E4-BDB4-527A7369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D904D-0ABC-43CA-896A-1DBAF277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15D91-F598-4DAC-9B79-4FA7DD52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01B72-13CF-4725-8D66-4EDC38B8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9B8BA-0C20-4D8E-BEE2-A0E377E7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EDF89-C14C-44B2-967B-F975137D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3A5CF-AB08-42AB-ACF1-FFE87A79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B595E-EB4B-4A4F-B7A5-CB0F7E09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53515-2B8A-4E98-8175-8BC64BDC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865EF-3642-4F22-8205-4DB47610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23C1C-87AA-4C64-8E8E-485F0617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5845D-980D-4B4F-B48E-C577C6C0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D60BD-8772-4D51-AD15-A45ACE56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07632-8CD5-4941-A608-B1EBF886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0789B-25DD-4326-BAC9-2DF7817B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2709F-9238-409E-81A0-E02AF087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BF492-DC7E-4AE6-85B6-DB966D8E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5E2E1-0AC6-4961-85A5-893E5A1C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76304-7999-4FEB-892E-3A70507A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C49CE-0649-470F-91D1-5D3E0439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0C8CE-56E9-46C0-BC7F-ECDF20F5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7DE70-7D19-4963-8E38-10671052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E4EE7-C3C4-4C64-BD45-AD1BD80D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8EBCF-8730-4BB5-846C-5ECFEFD8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988BC-D24F-4651-A696-7F397E99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43D76-D97B-430E-BFE1-FD34BBB1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22A21-71CA-4C11-AA84-A49CCACA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630FA-BDEF-482D-8337-1A967118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D224F-A2B5-462D-B804-173E09A9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AED70-6BDA-4BE3-8836-C8014812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6DE52-1CB4-4642-929C-53FBDFEB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E2AED-A235-49A1-8ED2-72855D9C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1FC87-C33D-4F65-9490-20FFD002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83F8F-9244-47F9-B5BB-FBED6451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3382-F912-4717-A712-54008579150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201C-E9EE-480A-96E2-F468368571A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CD33-1640-434E-9DB2-12AAD8293F2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6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CA42-B952-4E39-B220-DFA5E47AC13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EC0B-1384-47BF-9976-10D1C31F116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859F-6FB0-459F-95BD-2DB86870D6F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F254-DBD1-441E-A586-E7CDF490DA8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C62A-67F6-47C1-93A7-904DE8DF2B4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376E-5B85-45C1-89AE-4E4328C40DF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2341-61F5-40E3-BB90-2E57E4D0201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4C84-4D54-457A-9978-07AE37BFF6B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jpe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5.jpe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2.png"/><Relationship Id="rId28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jpe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5.jpe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13.jpeg"/><Relationship Id="rId26" Type="http://schemas.openxmlformats.org/officeDocument/2006/relationships/image" Target="../media/image14.png"/><Relationship Id="rId27" Type="http://schemas.openxmlformats.org/officeDocument/2006/relationships/image" Target="../media/image15.jpeg"/><Relationship Id="rId28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63440" y="1447920"/>
            <a:ext cx="8801280" cy="25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m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flatoxin mitigation to improve nutrition, safety and market competitive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5" name="Group 2"/>
          <p:cNvGrpSpPr/>
          <p:nvPr/>
        </p:nvGrpSpPr>
        <p:grpSpPr>
          <a:xfrm>
            <a:off x="16622640" y="41844960"/>
            <a:ext cx="1981440" cy="2111040"/>
            <a:chOff x="16622640" y="41844960"/>
            <a:chExt cx="1981440" cy="2111040"/>
          </a:xfrm>
        </p:grpSpPr>
        <p:pic>
          <p:nvPicPr>
            <p:cNvPr id="566" name="Picture 7" descr="\\nas\mmu\1Publishing_service\Logos\CGIAR logo\cgiar.tif"/>
            <p:cNvPicPr/>
            <p:nvPr/>
          </p:nvPicPr>
          <p:blipFill>
            <a:blip r:embed="rId1"/>
            <a:stretch/>
          </p:blipFill>
          <p:spPr>
            <a:xfrm>
              <a:off x="16622640" y="41844960"/>
              <a:ext cx="190656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Box 4"/>
            <p:cNvSpPr/>
            <p:nvPr/>
          </p:nvSpPr>
          <p:spPr>
            <a:xfrm>
              <a:off x="16788960" y="43313400"/>
              <a:ext cx="181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8" name="Picture 5" descr=""/>
          <p:cNvPicPr/>
          <p:nvPr/>
        </p:nvPicPr>
        <p:blipFill>
          <a:blip r:embed="rId2"/>
          <a:stretch/>
        </p:blipFill>
        <p:spPr>
          <a:xfrm>
            <a:off x="9764640" y="418338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"/>
          <p:cNvPicPr/>
          <p:nvPr/>
        </p:nvPicPr>
        <p:blipFill>
          <a:blip r:embed="rId3"/>
          <a:stretch/>
        </p:blipFill>
        <p:spPr>
          <a:xfrm>
            <a:off x="11160" y="42291000"/>
            <a:ext cx="7724880" cy="10825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4"/>
          <a:stretch/>
        </p:blipFill>
        <p:spPr>
          <a:xfrm>
            <a:off x="11822040" y="4183380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" descr="E:\zReturn to desktop\ICRAF logo.png"/>
          <p:cNvPicPr/>
          <p:nvPr/>
        </p:nvPicPr>
        <p:blipFill>
          <a:blip r:embed="rId5"/>
          <a:stretch/>
        </p:blipFill>
        <p:spPr>
          <a:xfrm>
            <a:off x="7478640" y="41910120"/>
            <a:ext cx="2347920" cy="1904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"/>
          <p:cNvPicPr/>
          <p:nvPr/>
        </p:nvPicPr>
        <p:blipFill>
          <a:blip r:embed="rId6"/>
          <a:stretch/>
        </p:blipFill>
        <p:spPr>
          <a:xfrm>
            <a:off x="13955760" y="41757480"/>
            <a:ext cx="2424240" cy="17067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0" descr=""/>
          <p:cNvPicPr/>
          <p:nvPr/>
        </p:nvPicPr>
        <p:blipFill>
          <a:blip r:embed="rId7"/>
          <a:srcRect l="26735" t="0" r="33523" b="0"/>
          <a:stretch/>
        </p:blipFill>
        <p:spPr>
          <a:xfrm>
            <a:off x="18668880" y="42305400"/>
            <a:ext cx="4622760" cy="12808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1" descr=""/>
          <p:cNvPicPr/>
          <p:nvPr/>
        </p:nvPicPr>
        <p:blipFill>
          <a:blip r:embed="rId8"/>
          <a:srcRect l="74543" t="0" r="0" b="0"/>
          <a:stretch/>
        </p:blipFill>
        <p:spPr>
          <a:xfrm>
            <a:off x="23317200" y="42367320"/>
            <a:ext cx="2819520" cy="1218960"/>
          </a:xfrm>
          <a:prstGeom prst="rect">
            <a:avLst/>
          </a:prstGeom>
          <a:ln w="0">
            <a:noFill/>
          </a:ln>
        </p:spPr>
      </p:pic>
      <p:grpSp>
        <p:nvGrpSpPr>
          <p:cNvPr id="575" name="Group 12"/>
          <p:cNvGrpSpPr/>
          <p:nvPr/>
        </p:nvGrpSpPr>
        <p:grpSpPr>
          <a:xfrm>
            <a:off x="16775280" y="41997240"/>
            <a:ext cx="1981080" cy="2111040"/>
            <a:chOff x="16775280" y="41997240"/>
            <a:chExt cx="1981080" cy="2111040"/>
          </a:xfrm>
        </p:grpSpPr>
        <p:pic>
          <p:nvPicPr>
            <p:cNvPr id="576" name="Picture 7" descr="\\nas\mmu\1Publishing_service\Logos\CGIAR logo\cgiar.tif"/>
            <p:cNvPicPr/>
            <p:nvPr/>
          </p:nvPicPr>
          <p:blipFill>
            <a:blip r:embed="rId9"/>
            <a:stretch/>
          </p:blipFill>
          <p:spPr>
            <a:xfrm>
              <a:off x="16775280" y="41997240"/>
              <a:ext cx="190620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Box 14"/>
            <p:cNvSpPr/>
            <p:nvPr/>
          </p:nvSpPr>
          <p:spPr>
            <a:xfrm>
              <a:off x="16941600" y="43465680"/>
              <a:ext cx="18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8" name="Picture 15" descr=""/>
          <p:cNvPicPr/>
          <p:nvPr/>
        </p:nvPicPr>
        <p:blipFill>
          <a:blip r:embed="rId10"/>
          <a:stretch/>
        </p:blipFill>
        <p:spPr>
          <a:xfrm>
            <a:off x="9917280" y="419860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6" descr=""/>
          <p:cNvPicPr/>
          <p:nvPr/>
        </p:nvPicPr>
        <p:blipFill>
          <a:blip r:embed="rId11"/>
          <a:stretch/>
        </p:blipFill>
        <p:spPr>
          <a:xfrm>
            <a:off x="163440" y="42443280"/>
            <a:ext cx="7724880" cy="10828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6" descr=""/>
          <p:cNvPicPr/>
          <p:nvPr/>
        </p:nvPicPr>
        <p:blipFill>
          <a:blip r:embed="rId12"/>
          <a:stretch/>
        </p:blipFill>
        <p:spPr>
          <a:xfrm>
            <a:off x="11974680" y="4198608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" descr="E:\zReturn to desktop\ICRAF logo.png"/>
          <p:cNvPicPr/>
          <p:nvPr/>
        </p:nvPicPr>
        <p:blipFill>
          <a:blip r:embed="rId13"/>
          <a:stretch/>
        </p:blipFill>
        <p:spPr>
          <a:xfrm>
            <a:off x="7631280" y="42062400"/>
            <a:ext cx="2347920" cy="19051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9" descr=""/>
          <p:cNvPicPr/>
          <p:nvPr/>
        </p:nvPicPr>
        <p:blipFill>
          <a:blip r:embed="rId14"/>
          <a:stretch/>
        </p:blipFill>
        <p:spPr>
          <a:xfrm>
            <a:off x="14108040" y="41910120"/>
            <a:ext cx="2424240" cy="17064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0" descr=""/>
          <p:cNvPicPr/>
          <p:nvPr/>
        </p:nvPicPr>
        <p:blipFill>
          <a:blip r:embed="rId15"/>
          <a:srcRect l="26735" t="0" r="33523" b="0"/>
          <a:stretch/>
        </p:blipFill>
        <p:spPr>
          <a:xfrm>
            <a:off x="18821520" y="42457680"/>
            <a:ext cx="4622760" cy="12812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1" descr=""/>
          <p:cNvPicPr/>
          <p:nvPr/>
        </p:nvPicPr>
        <p:blipFill>
          <a:blip r:embed="rId16"/>
          <a:srcRect l="74543" t="0" r="0" b="0"/>
          <a:stretch/>
        </p:blipFill>
        <p:spPr>
          <a:xfrm>
            <a:off x="23469480" y="42519600"/>
            <a:ext cx="28195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22"/>
          <p:cNvGrpSpPr/>
          <p:nvPr/>
        </p:nvGrpSpPr>
        <p:grpSpPr>
          <a:xfrm>
            <a:off x="16927560" y="42149880"/>
            <a:ext cx="1981080" cy="2111040"/>
            <a:chOff x="16927560" y="42149880"/>
            <a:chExt cx="1981080" cy="2111040"/>
          </a:xfrm>
        </p:grpSpPr>
        <p:pic>
          <p:nvPicPr>
            <p:cNvPr id="586" name="Picture 7" descr="\\nas\mmu\1Publishing_service\Logos\CGIAR logo\cgiar.tif"/>
            <p:cNvPicPr/>
            <p:nvPr/>
          </p:nvPicPr>
          <p:blipFill>
            <a:blip r:embed="rId17"/>
            <a:stretch/>
          </p:blipFill>
          <p:spPr>
            <a:xfrm>
              <a:off x="16927560" y="42149880"/>
              <a:ext cx="190620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TextBox 24"/>
            <p:cNvSpPr/>
            <p:nvPr/>
          </p:nvSpPr>
          <p:spPr>
            <a:xfrm>
              <a:off x="17093880" y="43618320"/>
              <a:ext cx="18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8" name="Picture 25" descr=""/>
          <p:cNvPicPr/>
          <p:nvPr/>
        </p:nvPicPr>
        <p:blipFill>
          <a:blip r:embed="rId18"/>
          <a:stretch/>
        </p:blipFill>
        <p:spPr>
          <a:xfrm>
            <a:off x="10069560" y="42138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26" descr=""/>
          <p:cNvPicPr/>
          <p:nvPr/>
        </p:nvPicPr>
        <p:blipFill>
          <a:blip r:embed="rId19"/>
          <a:stretch/>
        </p:blipFill>
        <p:spPr>
          <a:xfrm>
            <a:off x="316080" y="42595920"/>
            <a:ext cx="7724520" cy="10825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6" descr=""/>
          <p:cNvPicPr/>
          <p:nvPr/>
        </p:nvPicPr>
        <p:blipFill>
          <a:blip r:embed="rId20"/>
          <a:stretch/>
        </p:blipFill>
        <p:spPr>
          <a:xfrm>
            <a:off x="12126960" y="4213872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E:\zReturn to desktop\ICRAF logo.png"/>
          <p:cNvPicPr/>
          <p:nvPr/>
        </p:nvPicPr>
        <p:blipFill>
          <a:blip r:embed="rId21"/>
          <a:stretch/>
        </p:blipFill>
        <p:spPr>
          <a:xfrm>
            <a:off x="7783560" y="42214680"/>
            <a:ext cx="2347920" cy="19051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9" descr=""/>
          <p:cNvPicPr/>
          <p:nvPr/>
        </p:nvPicPr>
        <p:blipFill>
          <a:blip r:embed="rId22"/>
          <a:stretch/>
        </p:blipFill>
        <p:spPr>
          <a:xfrm>
            <a:off x="14260680" y="42062400"/>
            <a:ext cx="2423880" cy="17064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0" descr=""/>
          <p:cNvPicPr/>
          <p:nvPr/>
        </p:nvPicPr>
        <p:blipFill>
          <a:blip r:embed="rId23"/>
          <a:srcRect l="26735" t="0" r="33523" b="0"/>
          <a:stretch/>
        </p:blipFill>
        <p:spPr>
          <a:xfrm>
            <a:off x="18973800" y="42609960"/>
            <a:ext cx="4622760" cy="12812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31" descr=""/>
          <p:cNvPicPr/>
          <p:nvPr/>
        </p:nvPicPr>
        <p:blipFill>
          <a:blip r:embed="rId24"/>
          <a:srcRect l="74543" t="0" r="0" b="0"/>
          <a:stretch/>
        </p:blipFill>
        <p:spPr>
          <a:xfrm>
            <a:off x="23622120" y="42671880"/>
            <a:ext cx="2819160" cy="12193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32" descr=""/>
          <p:cNvPicPr/>
          <p:nvPr/>
        </p:nvPicPr>
        <p:blipFill>
          <a:blip r:embed="rId25"/>
          <a:stretch/>
        </p:blipFill>
        <p:spPr>
          <a:xfrm>
            <a:off x="3733920" y="4157640"/>
            <a:ext cx="1676160" cy="23446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5" descr=""/>
          <p:cNvPicPr/>
          <p:nvPr/>
        </p:nvPicPr>
        <p:blipFill>
          <a:blip r:embed="rId26"/>
          <a:stretch/>
        </p:blipFill>
        <p:spPr>
          <a:xfrm>
            <a:off x="5867280" y="4157640"/>
            <a:ext cx="2521080" cy="22892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36" descr=""/>
          <p:cNvPicPr/>
          <p:nvPr/>
        </p:nvPicPr>
        <p:blipFill>
          <a:blip r:embed="rId27"/>
          <a:stretch/>
        </p:blipFill>
        <p:spPr>
          <a:xfrm>
            <a:off x="316080" y="4157640"/>
            <a:ext cx="288756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195640" y="5373720"/>
          <a:ext cx="4680000" cy="979560"/>
        </p:xfrm>
        <a:graphic>
          <a:graphicData uri="http://schemas.openxmlformats.org/drawingml/2006/table">
            <a:tbl>
              <a:tblPr/>
              <a:tblGrid>
                <a:gridCol w="1704960"/>
                <a:gridCol w="1373040"/>
                <a:gridCol w="1602000"/>
              </a:tblGrid>
              <a:tr h="326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effic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26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aflatox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8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ine aflatox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48" name="Rectangle 3"/>
          <p:cNvSpPr/>
          <p:nvPr/>
        </p:nvSpPr>
        <p:spPr>
          <a:xfrm>
            <a:off x="1692360" y="429264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Calibri"/>
              </a:rPr>
              <a:t>Coefficient of correlation between Food Aflatoxin (pg/ml) and urine aflatox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2268360" y="2637000"/>
          <a:ext cx="3672000" cy="1466640"/>
        </p:xfrm>
        <a:graphic>
          <a:graphicData uri="http://schemas.openxmlformats.org/drawingml/2006/table">
            <a:tbl>
              <a:tblPr/>
              <a:tblGrid>
                <a:gridCol w="1644840"/>
                <a:gridCol w="2027160"/>
              </a:tblGrid>
              <a:tr h="587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der nutrition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-Scores % below 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st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nt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weigh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0" name="TextBox 4"/>
          <p:cNvSpPr/>
          <p:nvPr/>
        </p:nvSpPr>
        <p:spPr>
          <a:xfrm>
            <a:off x="1692360" y="162864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Under nutrition status before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6572160" y="2284560"/>
            <a:ext cx="24814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NewRomanPSMT"/>
              </a:rPr>
              <a:t>According to </a:t>
            </a:r>
            <a:r>
              <a:rPr b="0" lang="en-IN" sz="1400" spc="-1" strike="noStrike">
                <a:solidFill>
                  <a:srgbClr val="000000"/>
                </a:solidFill>
                <a:latin typeface="Calibri"/>
                <a:ea typeface="MS Mincho"/>
              </a:rPr>
              <a:t>WHO classification, stunting rates above 20%, wasting rates above 5% and underweight rates above 10% are considered high and cause for alarm in any population (WHO, 2014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2" name=""/>
          <p:cNvGraphicFramePr/>
          <p:nvPr/>
        </p:nvGraphicFramePr>
        <p:xfrm>
          <a:off x="250920" y="2565360"/>
          <a:ext cx="8605800" cy="3587760"/>
        </p:xfrm>
        <a:graphic>
          <a:graphicData uri="http://schemas.openxmlformats.org/drawingml/2006/table">
            <a:tbl>
              <a:tblPr/>
              <a:tblGrid>
                <a:gridCol w="2363760"/>
                <a:gridCol w="2361960"/>
                <a:gridCol w="1317960"/>
                <a:gridCol w="1341360"/>
                <a:gridCol w="1220760"/>
              </a:tblGrid>
              <a:tr h="97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endent Variabl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ght-For-Age Z-Sc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effic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-stat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rowSpan="8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= 3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-squared= 0.00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-statistic= 5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-value= 0.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atment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5563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7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4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14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956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268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21 Dummy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156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6834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9900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2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323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3" name="Rectangle 2"/>
          <p:cNvSpPr/>
          <p:nvPr/>
        </p:nvSpPr>
        <p:spPr>
          <a:xfrm>
            <a:off x="755640" y="1700280"/>
            <a:ext cx="756144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Impacts of feeding trials on underweight: DID OLS Robust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684360" y="2301840"/>
          <a:ext cx="7991280" cy="3913200"/>
        </p:xfrm>
        <a:graphic>
          <a:graphicData uri="http://schemas.openxmlformats.org/drawingml/2006/table">
            <a:tbl>
              <a:tblPr/>
              <a:tblGrid>
                <a:gridCol w="2193840"/>
                <a:gridCol w="2195280"/>
                <a:gridCol w="1248120"/>
                <a:gridCol w="1247760"/>
                <a:gridCol w="1106280"/>
              </a:tblGrid>
              <a:tr h="1305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endent Variabl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ght-for-Height Z-Sc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effic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-stat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rowSpan="8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= 3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-squared= 0.03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-statistic= 2.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-value= 0.00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atment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2247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7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793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14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268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21 Dummy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18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344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235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2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939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193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5" name="Rectangle 1"/>
          <p:cNvSpPr/>
          <p:nvPr/>
        </p:nvSpPr>
        <p:spPr>
          <a:xfrm>
            <a:off x="723240" y="1487520"/>
            <a:ext cx="815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feeding trials on wasting: DID OLS Robust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4"/>
          <p:cNvSpPr/>
          <p:nvPr/>
        </p:nvSpPr>
        <p:spPr>
          <a:xfrm>
            <a:off x="108000" y="1197000"/>
            <a:ext cx="8496360" cy="54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S Mincho"/>
              </a:rPr>
              <a:t>Conclus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200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Mincho"/>
              </a:rPr>
              <a:t>A randomized controlled trial and difference-in-difference regression revealed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MS Mincho"/>
              </a:rPr>
              <a:t>significant improvement in health outcome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Mincho"/>
              </a:rPr>
              <a:t>within 21 days by virtue of the comprehensive training implemented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200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Calibri"/>
                <a:ea typeface="MS Mincho"/>
              </a:rPr>
              <a:t>The article presented the first result on </a:t>
            </a:r>
            <a:r>
              <a:rPr b="1" lang="en-IN" sz="1600" spc="-1" strike="noStrike">
                <a:solidFill>
                  <a:srgbClr val="000000"/>
                </a:solidFill>
                <a:latin typeface="Calibri"/>
                <a:ea typeface="MS Mincho"/>
              </a:rPr>
              <a:t>aflatoxin assay of children’s urine in Tanzania with high correlation with aflatoxin in food ingredients </a:t>
            </a:r>
            <a:r>
              <a:rPr b="0" lang="en-IN" sz="1600" spc="-1" strike="noStrike">
                <a:solidFill>
                  <a:srgbClr val="000000"/>
                </a:solidFill>
                <a:latin typeface="Calibri"/>
                <a:ea typeface="MS Mincho"/>
              </a:rPr>
              <a:t>that they consum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200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rect observation of the immediate outcome will convince mothers to maintain the good practices that are affordable in the communiti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200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urther elicitation and incorporation of local preferences and tastes would help guarantee sustainable adop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83808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Team: Core implemen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Picture 32" descr=""/>
          <p:cNvPicPr/>
          <p:nvPr/>
        </p:nvPicPr>
        <p:blipFill>
          <a:blip r:embed="rId1"/>
          <a:stretch/>
        </p:blipFill>
        <p:spPr>
          <a:xfrm>
            <a:off x="4876920" y="3124080"/>
            <a:ext cx="4221000" cy="5922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33" descr="E:\zReturn to desktop\ICRAF logo.png"/>
          <p:cNvPicPr/>
          <p:nvPr/>
        </p:nvPicPr>
        <p:blipFill>
          <a:blip r:embed="rId2"/>
          <a:stretch/>
        </p:blipFill>
        <p:spPr>
          <a:xfrm>
            <a:off x="457200" y="2743200"/>
            <a:ext cx="1220760" cy="9907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34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35" descr=""/>
          <p:cNvPicPr/>
          <p:nvPr/>
        </p:nvPicPr>
        <p:blipFill>
          <a:blip r:embed="rId4"/>
          <a:stretch/>
        </p:blipFill>
        <p:spPr>
          <a:xfrm>
            <a:off x="3429000" y="3429000"/>
            <a:ext cx="836640" cy="8240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6" descr=""/>
          <p:cNvPicPr/>
          <p:nvPr/>
        </p:nvPicPr>
        <p:blipFill>
          <a:blip r:embed="rId5"/>
          <a:stretch/>
        </p:blipFill>
        <p:spPr>
          <a:xfrm>
            <a:off x="304920" y="3962520"/>
            <a:ext cx="1509480" cy="10620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7" descr="P:\logos\i\iita\IITA_regular-sienna_with slogan (2).JPG"/>
          <p:cNvPicPr/>
          <p:nvPr/>
        </p:nvPicPr>
        <p:blipFill>
          <a:blip r:embed="rId6"/>
          <a:stretch/>
        </p:blipFill>
        <p:spPr>
          <a:xfrm>
            <a:off x="5715000" y="4495680"/>
            <a:ext cx="1069920" cy="5367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4" descr=""/>
          <p:cNvPicPr/>
          <p:nvPr/>
        </p:nvPicPr>
        <p:blipFill>
          <a:blip r:embed="rId7"/>
          <a:stretch/>
        </p:blipFill>
        <p:spPr>
          <a:xfrm>
            <a:off x="1752480" y="5791320"/>
            <a:ext cx="5848560" cy="6667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46" descr=""/>
          <p:cNvPicPr/>
          <p:nvPr/>
        </p:nvPicPr>
        <p:blipFill>
          <a:blip r:embed="rId8"/>
          <a:stretch/>
        </p:blipFill>
        <p:spPr>
          <a:xfrm>
            <a:off x="3429000" y="4572000"/>
            <a:ext cx="78264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3"/>
          <p:cNvSpPr/>
          <p:nvPr/>
        </p:nvSpPr>
        <p:spPr>
          <a:xfrm>
            <a:off x="6270480" y="0"/>
            <a:ext cx="2886120" cy="68706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Rectangle 5"/>
          <p:cNvSpPr/>
          <p:nvPr/>
        </p:nvSpPr>
        <p:spPr>
          <a:xfrm>
            <a:off x="0" y="0"/>
            <a:ext cx="179280" cy="402912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8"/>
          <p:cNvSpPr/>
          <p:nvPr/>
        </p:nvSpPr>
        <p:spPr>
          <a:xfrm>
            <a:off x="2340000" y="3789360"/>
            <a:ext cx="0" cy="979560"/>
          </a:xfrm>
          <a:prstGeom prst="line">
            <a:avLst/>
          </a:prstGeom>
          <a:ln w="25560">
            <a:solidFill>
              <a:srgbClr val="f68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3"/>
          <p:cNvSpPr/>
          <p:nvPr/>
        </p:nvSpPr>
        <p:spPr>
          <a:xfrm>
            <a:off x="2340000" y="393372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3200" spc="-1" strike="noStrike">
                <a:solidFill>
                  <a:srgbClr val="225c29"/>
                </a:solidFill>
                <a:latin typeface="Calibri"/>
                <a:ea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0" name="Group 16"/>
          <p:cNvGrpSpPr/>
          <p:nvPr/>
        </p:nvGrpSpPr>
        <p:grpSpPr>
          <a:xfrm>
            <a:off x="108000" y="6105600"/>
            <a:ext cx="4757760" cy="598320"/>
            <a:chOff x="108000" y="6105600"/>
            <a:chExt cx="4757760" cy="598320"/>
          </a:xfrm>
        </p:grpSpPr>
        <p:sp>
          <p:nvSpPr>
            <p:cNvPr id="671" name="Rectangle 17"/>
            <p:cNvSpPr/>
            <p:nvPr/>
          </p:nvSpPr>
          <p:spPr>
            <a:xfrm>
              <a:off x="108000" y="6105600"/>
              <a:ext cx="4757760" cy="59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2" name="Picture 3" descr="D:\Jobs 2013\ID and Visiting cards\ICRISAT-Logo-Extended Green.png"/>
            <p:cNvPicPr/>
            <p:nvPr/>
          </p:nvPicPr>
          <p:blipFill>
            <a:blip r:embed="rId1"/>
            <a:stretch/>
          </p:blipFill>
          <p:spPr>
            <a:xfrm>
              <a:off x="215640" y="6166440"/>
              <a:ext cx="4542120" cy="46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3" name="Picture 7" descr="D:\Jobs 2013\ID and Visiting cards\Covers\G1.png"/>
          <p:cNvPicPr/>
          <p:nvPr/>
        </p:nvPicPr>
        <p:blipFill>
          <a:blip r:embed="rId2"/>
          <a:stretch/>
        </p:blipFill>
        <p:spPr>
          <a:xfrm>
            <a:off x="5886360" y="4559400"/>
            <a:ext cx="939960" cy="16063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2" descr=""/>
          <p:cNvPicPr/>
          <p:nvPr/>
        </p:nvPicPr>
        <p:blipFill>
          <a:blip r:embed="rId3"/>
          <a:srcRect l="0" t="0" r="0" b="-115"/>
          <a:stretch/>
        </p:blipFill>
        <p:spPr>
          <a:xfrm>
            <a:off x="2185920" y="5048280"/>
            <a:ext cx="2260800" cy="892080"/>
          </a:xfrm>
          <a:prstGeom prst="rect">
            <a:avLst/>
          </a:prstGeom>
          <a:ln w="0">
            <a:noFill/>
          </a:ln>
        </p:spPr>
      </p:pic>
      <p:sp>
        <p:nvSpPr>
          <p:cNvPr id="675" name="TextBox 14"/>
          <p:cNvSpPr/>
          <p:nvPr/>
        </p:nvSpPr>
        <p:spPr>
          <a:xfrm>
            <a:off x="1740240" y="5892840"/>
            <a:ext cx="317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225c29"/>
                </a:solidFill>
                <a:latin typeface="Arial"/>
              </a:rPr>
              <a:t>ICRISAT is a member of the CGIAR Consortiu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16622640" y="41844960"/>
            <a:ext cx="1981440" cy="2111040"/>
            <a:chOff x="16622640" y="41844960"/>
            <a:chExt cx="1981440" cy="2111040"/>
          </a:xfrm>
        </p:grpSpPr>
        <p:pic>
          <p:nvPicPr>
            <p:cNvPr id="599" name="Picture 7" descr="\\nas\mmu\1Publishing_service\Logos\CGIAR logo\cgiar.tif"/>
            <p:cNvPicPr/>
            <p:nvPr/>
          </p:nvPicPr>
          <p:blipFill>
            <a:blip r:embed="rId1"/>
            <a:stretch/>
          </p:blipFill>
          <p:spPr>
            <a:xfrm>
              <a:off x="16622640" y="41844960"/>
              <a:ext cx="190656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4"/>
            <p:cNvSpPr/>
            <p:nvPr/>
          </p:nvSpPr>
          <p:spPr>
            <a:xfrm>
              <a:off x="16788960" y="43313400"/>
              <a:ext cx="181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1" name="Picture 5" descr=""/>
          <p:cNvPicPr/>
          <p:nvPr/>
        </p:nvPicPr>
        <p:blipFill>
          <a:blip r:embed="rId2"/>
          <a:stretch/>
        </p:blipFill>
        <p:spPr>
          <a:xfrm>
            <a:off x="9764640" y="418338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6" descr=""/>
          <p:cNvPicPr/>
          <p:nvPr/>
        </p:nvPicPr>
        <p:blipFill>
          <a:blip r:embed="rId3"/>
          <a:stretch/>
        </p:blipFill>
        <p:spPr>
          <a:xfrm>
            <a:off x="11160" y="42291000"/>
            <a:ext cx="7724880" cy="1082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"/>
          <p:cNvPicPr/>
          <p:nvPr/>
        </p:nvPicPr>
        <p:blipFill>
          <a:blip r:embed="rId4"/>
          <a:stretch/>
        </p:blipFill>
        <p:spPr>
          <a:xfrm>
            <a:off x="11822040" y="4183380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" descr="E:\zReturn to desktop\ICRAF logo.png"/>
          <p:cNvPicPr/>
          <p:nvPr/>
        </p:nvPicPr>
        <p:blipFill>
          <a:blip r:embed="rId5"/>
          <a:stretch/>
        </p:blipFill>
        <p:spPr>
          <a:xfrm>
            <a:off x="7478640" y="41910120"/>
            <a:ext cx="2347920" cy="19047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"/>
          <p:cNvPicPr/>
          <p:nvPr/>
        </p:nvPicPr>
        <p:blipFill>
          <a:blip r:embed="rId6"/>
          <a:stretch/>
        </p:blipFill>
        <p:spPr>
          <a:xfrm>
            <a:off x="13955760" y="41757480"/>
            <a:ext cx="2424240" cy="17067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0" descr=""/>
          <p:cNvPicPr/>
          <p:nvPr/>
        </p:nvPicPr>
        <p:blipFill>
          <a:blip r:embed="rId7"/>
          <a:srcRect l="26735" t="0" r="33523" b="0"/>
          <a:stretch/>
        </p:blipFill>
        <p:spPr>
          <a:xfrm>
            <a:off x="18668880" y="42305400"/>
            <a:ext cx="4622760" cy="12808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1" descr=""/>
          <p:cNvPicPr/>
          <p:nvPr/>
        </p:nvPicPr>
        <p:blipFill>
          <a:blip r:embed="rId8"/>
          <a:srcRect l="74543" t="0" r="0" b="0"/>
          <a:stretch/>
        </p:blipFill>
        <p:spPr>
          <a:xfrm>
            <a:off x="23317200" y="42367320"/>
            <a:ext cx="2819520" cy="1218960"/>
          </a:xfrm>
          <a:prstGeom prst="rect">
            <a:avLst/>
          </a:prstGeom>
          <a:ln w="0">
            <a:noFill/>
          </a:ln>
        </p:spPr>
      </p:pic>
      <p:grpSp>
        <p:nvGrpSpPr>
          <p:cNvPr id="608" name="Group 12"/>
          <p:cNvGrpSpPr/>
          <p:nvPr/>
        </p:nvGrpSpPr>
        <p:grpSpPr>
          <a:xfrm>
            <a:off x="16775280" y="41997240"/>
            <a:ext cx="1981080" cy="2111040"/>
            <a:chOff x="16775280" y="41997240"/>
            <a:chExt cx="1981080" cy="2111040"/>
          </a:xfrm>
        </p:grpSpPr>
        <p:pic>
          <p:nvPicPr>
            <p:cNvPr id="609" name="Picture 7" descr="\\nas\mmu\1Publishing_service\Logos\CGIAR logo\cgiar.tif"/>
            <p:cNvPicPr/>
            <p:nvPr/>
          </p:nvPicPr>
          <p:blipFill>
            <a:blip r:embed="rId9"/>
            <a:stretch/>
          </p:blipFill>
          <p:spPr>
            <a:xfrm>
              <a:off x="16775280" y="41997240"/>
              <a:ext cx="190620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TextBox 14"/>
            <p:cNvSpPr/>
            <p:nvPr/>
          </p:nvSpPr>
          <p:spPr>
            <a:xfrm>
              <a:off x="16941600" y="43465680"/>
              <a:ext cx="18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1" name="Picture 15" descr=""/>
          <p:cNvPicPr/>
          <p:nvPr/>
        </p:nvPicPr>
        <p:blipFill>
          <a:blip r:embed="rId10"/>
          <a:stretch/>
        </p:blipFill>
        <p:spPr>
          <a:xfrm>
            <a:off x="9917280" y="419860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6" descr=""/>
          <p:cNvPicPr/>
          <p:nvPr/>
        </p:nvPicPr>
        <p:blipFill>
          <a:blip r:embed="rId11"/>
          <a:stretch/>
        </p:blipFill>
        <p:spPr>
          <a:xfrm>
            <a:off x="163440" y="42443280"/>
            <a:ext cx="7724880" cy="10828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"/>
          <p:cNvPicPr/>
          <p:nvPr/>
        </p:nvPicPr>
        <p:blipFill>
          <a:blip r:embed="rId12"/>
          <a:stretch/>
        </p:blipFill>
        <p:spPr>
          <a:xfrm>
            <a:off x="11974680" y="4198608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" descr="E:\zReturn to desktop\ICRAF logo.png"/>
          <p:cNvPicPr/>
          <p:nvPr/>
        </p:nvPicPr>
        <p:blipFill>
          <a:blip r:embed="rId13"/>
          <a:stretch/>
        </p:blipFill>
        <p:spPr>
          <a:xfrm>
            <a:off x="7631280" y="42062400"/>
            <a:ext cx="2347920" cy="19051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9" descr=""/>
          <p:cNvPicPr/>
          <p:nvPr/>
        </p:nvPicPr>
        <p:blipFill>
          <a:blip r:embed="rId14"/>
          <a:stretch/>
        </p:blipFill>
        <p:spPr>
          <a:xfrm>
            <a:off x="14108040" y="41910120"/>
            <a:ext cx="2424240" cy="17064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0" descr=""/>
          <p:cNvPicPr/>
          <p:nvPr/>
        </p:nvPicPr>
        <p:blipFill>
          <a:blip r:embed="rId15"/>
          <a:srcRect l="26735" t="0" r="33523" b="0"/>
          <a:stretch/>
        </p:blipFill>
        <p:spPr>
          <a:xfrm>
            <a:off x="18821520" y="42457680"/>
            <a:ext cx="4622760" cy="12812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21" descr=""/>
          <p:cNvPicPr/>
          <p:nvPr/>
        </p:nvPicPr>
        <p:blipFill>
          <a:blip r:embed="rId16"/>
          <a:srcRect l="74543" t="0" r="0" b="0"/>
          <a:stretch/>
        </p:blipFill>
        <p:spPr>
          <a:xfrm>
            <a:off x="23469480" y="42519600"/>
            <a:ext cx="28195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618" name="Group 22"/>
          <p:cNvGrpSpPr/>
          <p:nvPr/>
        </p:nvGrpSpPr>
        <p:grpSpPr>
          <a:xfrm>
            <a:off x="16927560" y="42149880"/>
            <a:ext cx="1981080" cy="2111040"/>
            <a:chOff x="16927560" y="42149880"/>
            <a:chExt cx="1981080" cy="2111040"/>
          </a:xfrm>
        </p:grpSpPr>
        <p:pic>
          <p:nvPicPr>
            <p:cNvPr id="619" name="Picture 7" descr="\\nas\mmu\1Publishing_service\Logos\CGIAR logo\cgiar.tif"/>
            <p:cNvPicPr/>
            <p:nvPr/>
          </p:nvPicPr>
          <p:blipFill>
            <a:blip r:embed="rId17"/>
            <a:stretch/>
          </p:blipFill>
          <p:spPr>
            <a:xfrm>
              <a:off x="16927560" y="42149880"/>
              <a:ext cx="190620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TextBox 24"/>
            <p:cNvSpPr/>
            <p:nvPr/>
          </p:nvSpPr>
          <p:spPr>
            <a:xfrm>
              <a:off x="17093880" y="43618320"/>
              <a:ext cx="18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21" name="Picture 25" descr=""/>
          <p:cNvPicPr/>
          <p:nvPr/>
        </p:nvPicPr>
        <p:blipFill>
          <a:blip r:embed="rId18"/>
          <a:stretch/>
        </p:blipFill>
        <p:spPr>
          <a:xfrm>
            <a:off x="10069560" y="42138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6" descr=""/>
          <p:cNvPicPr/>
          <p:nvPr/>
        </p:nvPicPr>
        <p:blipFill>
          <a:blip r:embed="rId19"/>
          <a:stretch/>
        </p:blipFill>
        <p:spPr>
          <a:xfrm>
            <a:off x="316080" y="42595920"/>
            <a:ext cx="7724520" cy="10825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" descr=""/>
          <p:cNvPicPr/>
          <p:nvPr/>
        </p:nvPicPr>
        <p:blipFill>
          <a:blip r:embed="rId20"/>
          <a:stretch/>
        </p:blipFill>
        <p:spPr>
          <a:xfrm>
            <a:off x="12126960" y="4213872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" descr="E:\zReturn to desktop\ICRAF logo.png"/>
          <p:cNvPicPr/>
          <p:nvPr/>
        </p:nvPicPr>
        <p:blipFill>
          <a:blip r:embed="rId21"/>
          <a:stretch/>
        </p:blipFill>
        <p:spPr>
          <a:xfrm>
            <a:off x="7783560" y="42214680"/>
            <a:ext cx="2347920" cy="19051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9" descr=""/>
          <p:cNvPicPr/>
          <p:nvPr/>
        </p:nvPicPr>
        <p:blipFill>
          <a:blip r:embed="rId22"/>
          <a:stretch/>
        </p:blipFill>
        <p:spPr>
          <a:xfrm>
            <a:off x="14260680" y="42062400"/>
            <a:ext cx="2423880" cy="17064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0" descr=""/>
          <p:cNvPicPr/>
          <p:nvPr/>
        </p:nvPicPr>
        <p:blipFill>
          <a:blip r:embed="rId23"/>
          <a:srcRect l="26735" t="0" r="33523" b="0"/>
          <a:stretch/>
        </p:blipFill>
        <p:spPr>
          <a:xfrm>
            <a:off x="18973800" y="42609960"/>
            <a:ext cx="4622760" cy="12812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31" descr=""/>
          <p:cNvPicPr/>
          <p:nvPr/>
        </p:nvPicPr>
        <p:blipFill>
          <a:blip r:embed="rId24"/>
          <a:srcRect l="74543" t="0" r="0" b="0"/>
          <a:stretch/>
        </p:blipFill>
        <p:spPr>
          <a:xfrm>
            <a:off x="23622120" y="42671880"/>
            <a:ext cx="281916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8" name=""/>
          <p:cNvGraphicFramePr/>
          <p:nvPr/>
        </p:nvGraphicFramePr>
        <p:xfrm>
          <a:off x="163440" y="4346640"/>
          <a:ext cx="4919760" cy="2636640"/>
        </p:xfrm>
        <a:graphic>
          <a:graphicData uri="http://schemas.openxmlformats.org/drawingml/2006/table">
            <a:tbl>
              <a:tblPr/>
              <a:tblGrid>
                <a:gridCol w="1397160"/>
                <a:gridCol w="3522600"/>
              </a:tblGrid>
              <a:tr h="881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ll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f aflatoxigenic A.flavus in soil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it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 (45/5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jo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(35/4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l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(22/4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ik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 (10/2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le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(10/2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629" name="Picture 2" descr="C:\Users\anitha\Desktop\Af_logCFU_Dodoma_2014 (3).jpg"/>
          <p:cNvPicPr/>
          <p:nvPr/>
        </p:nvPicPr>
        <p:blipFill>
          <a:blip r:embed="rId25"/>
          <a:stretch/>
        </p:blipFill>
        <p:spPr>
          <a:xfrm>
            <a:off x="0" y="1341360"/>
            <a:ext cx="3267000" cy="26924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4" descr=""/>
          <p:cNvPicPr/>
          <p:nvPr/>
        </p:nvPicPr>
        <p:blipFill>
          <a:blip r:embed="rId26"/>
          <a:stretch/>
        </p:blipFill>
        <p:spPr>
          <a:xfrm>
            <a:off x="3473280" y="1820880"/>
            <a:ext cx="2232360" cy="18241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8" descr=""/>
          <p:cNvPicPr/>
          <p:nvPr/>
        </p:nvPicPr>
        <p:blipFill>
          <a:blip r:embed="rId27"/>
          <a:stretch/>
        </p:blipFill>
        <p:spPr>
          <a:xfrm>
            <a:off x="5224320" y="3645000"/>
            <a:ext cx="3733920" cy="2361960"/>
          </a:xfrm>
          <a:prstGeom prst="rect">
            <a:avLst/>
          </a:prstGeom>
          <a:ln w="0">
            <a:noFill/>
          </a:ln>
        </p:spPr>
      </p:pic>
      <p:sp>
        <p:nvSpPr>
          <p:cNvPr id="632" name="TextBox 39"/>
          <p:cNvSpPr/>
          <p:nvPr/>
        </p:nvSpPr>
        <p:spPr>
          <a:xfrm>
            <a:off x="6021360" y="2225520"/>
            <a:ext cx="198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1800" spc="-1" strike="noStrike">
                <a:solidFill>
                  <a:srgbClr val="000000"/>
                </a:solidFill>
                <a:latin typeface="Calibri"/>
              </a:rPr>
              <a:t>Aspergillus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recovery from Bamabaran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40"/>
          <p:cNvSpPr/>
          <p:nvPr/>
        </p:nvSpPr>
        <p:spPr>
          <a:xfrm>
            <a:off x="5845320" y="6083280"/>
            <a:ext cx="32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xigenic isolate fluorescing on coconut aga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33"/>
          <p:cNvSpPr/>
          <p:nvPr/>
        </p:nvSpPr>
        <p:spPr>
          <a:xfrm>
            <a:off x="3076560" y="946080"/>
            <a:ext cx="58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Mapping aflatoxin conta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5" name=""/>
          <p:cNvGraphicFramePr/>
          <p:nvPr/>
        </p:nvGraphicFramePr>
        <p:xfrm>
          <a:off x="324000" y="1446120"/>
          <a:ext cx="8132760" cy="4767480"/>
        </p:xfrm>
        <a:graphic>
          <a:graphicData uri="http://schemas.openxmlformats.org/drawingml/2006/table">
            <a:tbl>
              <a:tblPr/>
              <a:tblGrid>
                <a:gridCol w="1627200"/>
                <a:gridCol w="1625400"/>
                <a:gridCol w="1627200"/>
                <a:gridCol w="1625760"/>
                <a:gridCol w="1627200"/>
              </a:tblGrid>
              <a:tr h="84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eld and freshly harvested samp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samples tested in 2012-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f samples having &gt;20 ppb toxi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samples tested in 2013-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f samples having &gt;20 ppb toxi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281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mbara n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fl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rgh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84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rage s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samples tested in 2012-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uency of samples having &gt;20 ppb toxi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samples tested in 2013-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uency of samples having &gt;20 ppb toxi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mbara n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fl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rgh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.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6" name="TextBox 1"/>
          <p:cNvSpPr/>
          <p:nvPr/>
        </p:nvSpPr>
        <p:spPr>
          <a:xfrm>
            <a:off x="2484360" y="105264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Calibri"/>
              </a:rPr>
              <a:t>Aflatoxin contamination in fresh and storage cro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31680" y="6237360"/>
            <a:ext cx="9137880" cy="10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. Anitha, W. Munthali, H. Msere, E. Swai, E. Sichone, A. Rathore, and P. Okori . Prevalence of aflatoxin in diverse cropping system and its management in central Tanzania. Submitted to crop protection jour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8" name=""/>
          <p:cNvGraphicFramePr/>
          <p:nvPr/>
        </p:nvGraphicFramePr>
        <p:xfrm>
          <a:off x="272880" y="1558800"/>
          <a:ext cx="8544240" cy="4767480"/>
        </p:xfrm>
        <a:graphic>
          <a:graphicData uri="http://schemas.openxmlformats.org/drawingml/2006/table">
            <a:tbl>
              <a:tblPr/>
              <a:tblGrid>
                <a:gridCol w="6674040"/>
                <a:gridCol w="1870200"/>
              </a:tblGrid>
              <a:tr h="84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rvey after the post-harvest  management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60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latoxin awareness among farmers attended train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rmers grading their g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1401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teria for grading g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rotten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plump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col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reason for drying the g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reduce mois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st as a traditional 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rmers awareness and practice on proper drying, grading and storage of grains to reduce aflatoxin in g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9" name="TextBox 2"/>
          <p:cNvSpPr/>
          <p:nvPr/>
        </p:nvSpPr>
        <p:spPr>
          <a:xfrm>
            <a:off x="2701800" y="90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Impact of tra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4"/>
          <p:cNvSpPr/>
          <p:nvPr/>
        </p:nvSpPr>
        <p:spPr>
          <a:xfrm>
            <a:off x="250920" y="2781360"/>
            <a:ext cx="8353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Maize porridge is a major complementary food for children less than 1000 day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Pigeonpea produced is for tradin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Low quality of staple grains  (aflatoxin contamination). Th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ildren are exposed with mean AFM1 level of 122 pg ml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urin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ss knowledge on importance of nutrition content in daily foo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ss involvement of men in household activities including feeding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nsive 21 days learning by doing proces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ntification of impact on underweight, wasting and stuntin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1"/>
          <p:cNvSpPr/>
          <p:nvPr/>
        </p:nvSpPr>
        <p:spPr>
          <a:xfrm>
            <a:off x="611280" y="1773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Baseline to understand current practice on utilization of cereals and legumes followed by training (PDH mod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1"/>
          <p:cNvSpPr/>
          <p:nvPr/>
        </p:nvSpPr>
        <p:spPr>
          <a:xfrm>
            <a:off x="11160" y="1628640"/>
            <a:ext cx="9144000" cy="50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Aft>
                <a:spcPts val="799"/>
              </a:spcAft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MS Mincho"/>
              </a:rPr>
              <a:t>The effect of legumes cereal based complementary diet, reduced aflatoxin exposure and improved hygiene practices on wasting and underweight status of children in Central Tanz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Aft>
                <a:spcPts val="799"/>
              </a:spcAft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Calibri"/>
                <a:ea typeface="MS Mincho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Anitha Seeth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Yasinta Muzanil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MS Mincho"/>
              </a:rPr>
              <a:t>Taku W. Tsusaka</a:t>
            </a:r>
            <a:r>
              <a:rPr b="0" lang="en-IN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Emmanuel S Monyo</a:t>
            </a:r>
            <a:r>
              <a:rPr b="0" lang="en-IN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3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Lizzie Kachulu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 Mike Musok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and Patrick Okor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MS Mincho"/>
              </a:rPr>
              <a:t>International Crops Research Institute for the Semi-Arid Tropics (ICRISAT), P.O Box 1096 Lilongwe, Malaw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2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MS Mincho"/>
              </a:rPr>
              <a:t>Sokoine University of Agriculture (SUA), P.O Box 3000, Chuo Kikuu, Morogoro, Tanz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3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MS Mincho"/>
              </a:rPr>
              <a:t>International Crops Research Institute for the Semi-Arid Tropics (ICRISAT), P.O.Box</a:t>
            </a:r>
            <a:r>
              <a:rPr b="0" lang="en-US" sz="1200" spc="-1" strike="noStrike">
                <a:solidFill>
                  <a:srgbClr val="581d92"/>
                </a:solidFill>
                <a:latin typeface="Calibri"/>
                <a:ea typeface="MS Mincho"/>
              </a:rPr>
              <a:t>,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MS Mincho"/>
              </a:rPr>
              <a:t>39063, Nairobi Ke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spcAft>
                <a:spcPts val="799"/>
              </a:spcAft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684360" y="1484280"/>
            <a:ext cx="7416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MS Mincho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MS Mincho"/>
              </a:rPr>
              <a:t>At national level, stunting or chronic malnutrition was estimated as 35% of children between 0-59 months age which is though fell from 42 % between 2010 and 2014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NewRomanPSMT"/>
              </a:rPr>
              <a:t>According to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MS Mincho"/>
              </a:rPr>
              <a:t>WHO classification, stunting rates above 20%, wasting rates above 5% and underweight rates above 10% are considered high and cause for alarm in any population (WHO, 2014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Wasting, stunting and underweight are the three elements of undernutrition. </a:t>
            </a:r>
            <a:r>
              <a:rPr b="1" lang="en-IN" sz="2000" spc="-1" strike="noStrike">
                <a:solidFill>
                  <a:srgbClr val="000000"/>
                </a:solidFill>
                <a:latin typeface="Calibri"/>
              </a:rPr>
              <a:t>The causes for undernutrition is multifactori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The current study focused 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Dietary diversification using locally produced affordable foo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Water, sanitation and hygiene (WASH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Food safety management, specifically aflatoxin contro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Box 2"/>
          <p:cNvSpPr/>
          <p:nvPr/>
        </p:nvSpPr>
        <p:spPr>
          <a:xfrm>
            <a:off x="539640" y="1413000"/>
            <a:ext cx="691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alibri"/>
              </a:rPr>
              <a:t>Baseline Survey with anthropometry measurement, crop sample analysis and urine sample analysis for aflatox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alibri"/>
              </a:rPr>
              <a:t>Training – Positive deviance hearth model (CORE,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difference-in-difference (DID) is a capable tool to estimate treatment effects by systematically comparing the pre- and post-treatment differences in the outcome between a treatment group and a control grou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5" name=""/>
          <p:cNvGraphicFramePr/>
          <p:nvPr/>
        </p:nvGraphicFramePr>
        <p:xfrm>
          <a:off x="395280" y="2349360"/>
          <a:ext cx="8424720" cy="3011760"/>
        </p:xfrm>
        <a:graphic>
          <a:graphicData uri="http://schemas.openxmlformats.org/drawingml/2006/table">
            <a:tbl>
              <a:tblPr/>
              <a:tblGrid>
                <a:gridCol w="4834080"/>
                <a:gridCol w="3590640"/>
              </a:tblGrid>
              <a:tr h="765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ue, number of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ge in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lusively breast fed (EBF)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69.1%), 87, &lt;6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etary diversity score, mean (S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0 (1.1),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minimum dietary score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 %, 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l frequency, mean (S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1 (0.96),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minimum meal frequency (MMF)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3.7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,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minimum acceptable diet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8.4 %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6" name="TextBox 1"/>
          <p:cNvSpPr/>
          <p:nvPr/>
        </p:nvSpPr>
        <p:spPr>
          <a:xfrm>
            <a:off x="395280" y="14842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Calibri"/>
              </a:rPr>
              <a:t>Result: Dietary diversification and  IYCF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0:22:54Z</dcterms:created>
  <dc:creator>Vengala Reddy, Ch (ICRISAT-IN)</dc:creator>
  <dc:description/>
  <dc:language>en-US</dc:language>
  <cp:lastModifiedBy>ANITHA SEETHA</cp:lastModifiedBy>
  <dcterms:modified xsi:type="dcterms:W3CDTF">2016-06-30T06:41:49Z</dcterms:modified>
  <cp:revision>2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9000000000001023620</vt:lpwstr>
  </property>
</Properties>
</file>